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3CA9-6F1C-4F88-AFD7-2597615C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BF7A-5387-44C5-9A02-8BB57BA7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9F27C-6411-4429-8C3B-10AD448F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4697F-871A-4F28-943E-A8656BD7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52163-97AD-4969-92DF-3F03DE36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BB947-F9A0-4068-B455-69ECE47F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FBFAE-A064-45D0-A1DD-F5789DFC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98114-B436-48CA-A8FE-177BDC5D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A78F5-BC47-4139-AF8E-FD08A99C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36F42-E18C-4A22-8CE4-BD34A671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A90D2-8291-4F94-A0B9-C7ED99B6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EBDD1-2B23-43DA-8B91-A15E92EC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1D01-461A-4979-9A3F-FDA296EB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181BA-B872-4994-BA69-65A87060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A528B-B86A-4837-AD43-4D5D15FB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35E55-42E9-4D5E-8ECB-F0F7A2A9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2DAAA-9008-4EE2-A8B2-C0961FDB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3558A-EE5A-4907-99BA-4D654173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4D3E8-92F3-4EBC-A523-B14199C5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5EADB-9E37-4053-8110-05010211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DC898-F8F4-49A0-BEF5-F43162B9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AC181-E50B-4F3F-97E3-29EB8CBD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9974A-9787-4F38-8BF3-31702140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A92F-5933-4E4E-8CB4-1E3D34F4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195EF-3AFC-45B7-B60B-87043B14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028B4-763F-4264-BC24-0B9E7318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8459E-58A5-4306-8F4A-24D5F476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E1729-C160-423E-B308-6467BD44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0738A-0332-4D2E-A860-3967E068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7C332-E172-45FC-AEE4-22C7A64D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EF036-AA7C-487E-8FE9-18187823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D55BB-2403-4FC5-96BD-DF3BF8B8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7AACC-3746-4837-96E4-A977DB3F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0FFAE-317E-4A30-8556-EE46DD42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DE36-BCC5-4C5F-BDAB-6A9207AF1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0EE1D-F2E8-4B1B-9FC2-3335353A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F25C9-0AA8-4852-A8A0-0DBE3BE8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D092E-74FF-49DD-90C8-6DF7D667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F1B95-2C05-4EB9-B30C-12D40696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8F74F-15FC-4656-BF45-60DEA0A2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14AD7-126A-4D81-8AE5-09791B53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CDFDE-01E5-4785-978C-A3A516DC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8E5AF-9810-4BCE-BB9F-03344BAC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5599D-C17E-4F6B-A933-22251713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043C8-5706-46DA-9E3B-E1AB4139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6663-5108-47F6-8902-6672D998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7C684-6226-4D09-9376-9ACDB291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68FAD-7042-46EF-B6C6-DCB2175A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632E3-78E8-48D1-A5E0-267E49D1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FB582-6D00-49B7-B746-3B8D1593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01F85-E6E4-4697-854C-D83F83A2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350F8A-470C-432A-A042-C221269C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9794AE-A180-456C-B366-3AE9F857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0D182D-BC12-4E59-9706-158EC6CD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A17350-4C75-489C-A479-2A327626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94581F-EBA5-4883-B2A7-CB0925B3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51FC-0D6B-4A4B-BCB7-34724F07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137644-4E33-428F-8409-47610913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4737F3-4988-4BA4-AAD1-4D04ECD6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05DA1-E16F-4181-8785-4C544416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E1A851-9D1F-46F9-94ED-C993769F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A2C579-C643-4FD3-AE62-FE7ACDB6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48850C-B62C-4957-9E44-A38991251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F412B3-1025-4399-B9FF-3707FE0D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E45F4A-EDF0-4F39-8A59-D7B98AE76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0AACB7-19A8-4126-83A9-348806B3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64063F-EA34-40E2-85FD-A462F757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3C66-1EC3-4571-A4BD-62A82EBA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F9C10F-F864-43C7-A216-A1FBCB1B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28B6A9-4345-498A-9CBE-158725CC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9AB95B-207C-4E6A-8F32-7F30A22D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4AC121-89AF-4B0F-9D77-93A4CE66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6E0DB0-E835-458D-8C79-E431A63D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D43D23-531B-4B28-807D-9F322ED9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26A0C4-296D-4EB1-A43A-E539B7F0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7A2FB5-38E6-4CB1-87E2-BE2903A2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DA5CE6-5CF4-41E0-9F5B-50F8B96C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33A485-A96D-4068-951D-0A20A722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1AA5-5197-4A90-B32F-02EED3F9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4B8DE8-73F1-4F25-978B-739BEC6B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4854F1-C1AE-4448-BA45-5E0CD648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B8034C-5A4A-4321-A1A8-BA114E76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93EC80-7ECE-429E-820A-D2C3632D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476669-69D1-422D-8CFF-1A121513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BA768F-4F93-44E5-A37A-C9F52D3C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AC3831-2FC4-434D-855F-611F5A9E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1CFA17-6EE3-40AE-A212-7CDA7B0D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CA7250-E81A-4B46-845A-FDFD652B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6E24D6-39E0-4890-A115-9A6BFD2A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1A4A-86F2-4512-A59E-8D8FD78E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2459E3-E3FD-4854-A7E7-029BF3DE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B7837C-5233-4F0E-81A9-FE0002A0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151C12-FFF9-4FF2-828E-94D55647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063536-3914-456A-9835-2467DE37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C617F0-AECE-4013-87B1-142BEE78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FF5C05-ACD2-400A-A392-B547B7AE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5A60DE-FA4A-4FC3-9566-138746D7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D32297-EFF4-4BA2-B136-82DA5864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4B763A-C504-4D19-849F-6D12A855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11FFE5-895F-42F1-B18F-F1DD0232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5342-26B4-4256-A9FB-FC26DF1D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6D0D4E-3698-46D9-9745-BC23BF8C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312AAE-AE4A-4339-9730-EFCE3F00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3CD454-286B-42C0-B955-C23B6AF3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9BBE38-A0C1-47BB-B7C2-81D0EDE9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8D9AEE-15A2-4C1B-9329-3C786F63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12934F-BBE5-4054-8251-170C368D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129455-C2E1-454E-8EE9-A7A8D8F1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75F71D-B45C-422B-AE1A-E03A816B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75A6D7-893E-46F9-8CC8-35EDEEAB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DB6FD5-560E-4EC9-9BD1-A2BA6D0C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0AB2-6148-4063-9581-44EA6C13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2EC0-11E8-4378-8669-7ADE44BA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1D02AC-3E0D-4FEE-89F8-853BB5E7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747B39-D14B-4A6F-8FF5-5A9ECA30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493C57-3D06-4855-B1C1-69C0D98F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45000F-DEC0-4FC9-973D-49FF9EC1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BEC1ED-993F-4934-9A6A-E574E740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FA5515-7B00-45BE-9C09-8C312E18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9C8419-5128-4562-BDC4-9F2A778B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DDA964-E0AD-4230-B192-0B7DC7E6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E6DEBE-65DA-4D26-925D-72D495B1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54DCEA-4D58-46FB-98EF-2B149E55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B963-B8AC-415F-8428-04EB5355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E0ABE4-251D-4715-A2CE-D5FF14E2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981B52-E75B-4DD7-9EAD-F683E5DC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2CF260-D63D-49D0-86E3-715269B5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CB56F7-4304-458A-9892-06086573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52DE08-0DE3-4246-9FD4-160A75A7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462D9B-C2DF-40EA-B69D-46762DBE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EDA887-9B2A-468E-9AF9-06CF09AA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FA1E88-9904-4CB1-B6AC-C336C931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8E6BB8-893D-4678-B6B1-FCE1D877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E7E3F1-3177-4579-A9AE-C4255E1E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C46E-97BD-4C87-9196-827478BB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622FA3-4CA4-4282-917B-2473396C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E4EDCB-973A-4E7D-974D-75FA947C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8264D8-6246-4C80-933E-E8D09531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011632-C97E-4A55-AD7A-9EC11E24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C76693-86CC-4A29-A996-D453BF2B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2122AA-39C9-418E-A70F-730BB5DA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1442FF-B274-4979-A669-FA46E889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8A6A66-141D-48F8-B861-4D87A757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12F5B2-B180-41DB-B73C-787F8735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68B680-9C28-4A54-B84E-6ADD3C3E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90B7-972B-4CE6-958D-628A67B3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3A497C-DB6B-431B-A12D-60A72C81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B63F00-4589-4BA1-85AC-095B5E54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EFEEB6-40C9-4827-9C77-4E85D8D1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F3401B-8106-4F86-842C-EBF3AD6B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DEB06E-61DA-4A04-82FB-58F8CBD4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D9F1E8-C4A7-4413-A8C4-40B45D5D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6A2AB3-9839-4A28-9788-D920F725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BB934F-4AC4-461C-8774-D8ACD79A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12CAF3-A014-46F5-9010-BBFC5F00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36878C-CA99-410D-8546-45C8D2C4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D971-A0C2-42EB-9AE9-503D6FAB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419649-2429-4756-B66C-8D29FBB1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CEBA5F-3ADB-4146-BF6F-239D03C4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0F8CA0-1D2C-45BF-83AC-3A6E001C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76D5D1-575E-4496-A791-7D9F11F4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6F4B61-B151-4934-8796-1EF1F27F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FF27B8-E660-4C56-9D9B-ECAF1392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1AA0E0-8382-4142-AFF9-FCDF5162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73D1DB-1A45-4EA3-931C-000DD274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0AF5F4-41C6-4BA2-817C-08FAE018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E1B754-2B25-488D-9BF4-616BAC88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4FE49-7BFA-4D0F-96AC-F8626B8E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AC4F92-DE77-4CF0-92FB-DFFCD708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2E053C-BFC0-49EA-B87E-4E1EE91B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C25635-AAE8-4EE9-80A6-920C12CF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FF3DD-BDE7-4E90-AFD6-896C9C38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FD768-48C0-479C-9D26-D45FB503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924E1-2C07-4916-BD4F-4618ADF3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58A64-9958-4ED2-9480-71130D7A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5E6A-8D22-4F3C-8D9E-C28932FD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4287F-C49F-4089-80B3-CC2A0F9C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0B2B0-EAE9-48C9-B1B1-4FCF08F8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B9407-EDFA-4D96-9E5A-5E44F10E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D94DB-41C5-4CE0-9C4D-920C0ECC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CEBB6-DB44-46C5-B5CA-7212BE08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2CC72-07B7-4DD5-8BB4-C08084EE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CD409-DA69-4C0F-9310-10E2DAF3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ED3C3-4E87-45D1-A400-F4D9C8BE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AF322-693C-40DE-A182-631437EE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A7983-3FF6-4650-8372-43B1C3E3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1AB-C853-4EB1-A6FD-071DBB44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051B4-D5D0-4963-8D4E-6C740266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497BC-DA4A-44E5-82D4-BF026E80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88168-1572-41C1-96E2-C5B70B26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0E0F5-A95D-4B88-ABDB-F7ADD19E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EBBAF-7DD5-41A1-A256-8275E8BE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64E69-0845-4D07-906D-9093036E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ADC81-2AB6-4F40-84E4-55BD3EF5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AFBC2-790C-433B-B67C-5CE212D1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84AB0-FE36-430B-8DFF-6CF02829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995A4-C63B-461B-BD0D-E241AD95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6C9B-E106-4F10-A44B-8F0242A6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C31D9-7276-4C01-8F1E-957A7E66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D93FA-700C-42C5-A29D-C57BF759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2226D-0AE0-47AD-8988-A5709E4F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6229F-3638-4675-B08D-E59AF304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617D6-1CBD-4FCA-ABD5-3AEF0B6A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F6E69-83EA-42F1-9439-BD56C3DE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CEA3B-BC5E-4240-9793-69527280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B01B4-0019-4A0F-85A2-26C2F538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60BC4-EF02-451A-9BD1-B9702612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4675F-2993-4369-B195-CA58513B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6AB-B8D7-4660-84FD-1F5716A9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94160-61D1-463E-A9B5-2DA3BC88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B2A29-4ED1-48A3-8F21-02F0A4CE6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5C672-5224-4F29-8A82-A1951E43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6042C-500F-4CFF-B884-08B44DD9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C1B6C-30C8-4BEA-B28B-A5AAC84B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B4893-96C2-4A96-9518-8DC27EAE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8DCE7-773D-4F11-904C-F5FF9B3E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02ECF-9F69-4CC6-B86E-C8DC8FBB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F0CE0-B8C8-4E5F-B11D-28F07873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24B6D-3250-45A3-8DE3-153DFBBA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CFD9-46E8-4AC4-8237-FAE2211C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F2FC4-30C3-47E7-818E-2FA0E492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6BDCE-342E-4DF0-8313-5E54BE10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30D91-A152-4FB2-B17E-1490FCF2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14CBB-F317-4F84-B4A4-0C9E4BCF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769CC-6FDC-4181-80B8-75B94D87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BB855-469E-487C-9A56-A85DD8A0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9F38D-81DB-44B6-812D-B74D43DE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C6F18-311B-46C8-B16B-C987C454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093D9-0D8C-42FD-973E-1ABF0FFD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37608-3681-4AAC-A218-22AB7760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7FBA-234E-432F-A8FC-E7709D5D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630E0-64F1-4A5A-AEE8-17101666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F3AA1-FC55-4075-B907-FD4601E9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ED9BF-1E58-4527-94AD-497E5718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7D48D-52FB-4DC9-A0A7-19B85639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FB393-E12B-434A-BDF3-5E7224CF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B642A-035D-452B-8119-5E04E05D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455D9-16AD-476F-A382-B9C8552E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23058-F986-4DEF-8FB4-286B9FE5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A7788-415B-4895-9164-C3B8F811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B4A3E-2145-4B66-BB8C-7A7D7C12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134B-6A90-4B13-B367-A4F99182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80640-A4D8-4E51-8F9A-7A540E6E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AF422-D569-4D69-A61B-CECECCAC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68AAF-BDFA-4BF3-9FAB-4522524E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2664E-0F69-4A80-A8BF-BD24F305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6BF4E-4FA5-4EAF-85B9-51C09A09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CECA2-E4D7-492C-93D1-F5041980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E0181-653D-42BC-837D-7FD71903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B45E1-A1B3-4CF0-8B77-6366118E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6D621-FE39-4595-8C8D-4BD52DD8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3E1D8-97DC-4AD0-914F-5CD87EE3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CD03-D35B-43CA-AF26-7E0056B5C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288E-F1C6-46F7-9827-05835A812E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2B77-C7B2-43C0-90BC-625E1DD4C7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68F3-5478-46BB-9A2D-D4EFB4BCD6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C031-34BD-48A6-A17D-D44E140B0E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87A1-E9C9-4886-94C8-3AF0DA7AC6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B6F2-D6A3-4C20-9AA8-9F3F879E20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FDB4-978D-4CB2-8A34-ADF292AA7E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A0F5-3E0A-43D6-974C-B5CB6A0418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9BCB-06AA-4D65-9D32-6AB0232FCE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3DAC-D8B7-4F18-A9EF-EA8FCDF3E0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19B2-DC50-4ED9-BA4B-681698554F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E904-9B5F-4FB3-818E-A9F9A32172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5C97-A18B-4DC0-9EB9-92D93E34E3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0AF4-93E8-4535-B017-5F773415C1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31A0-63E3-4DDC-A048-D033186757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4F88-3510-4801-8C9B-0AD156047C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35B0-7926-430B-886A-FFD5815BEC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DC8E-9744-48B4-8455-4026DD2A32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B099-C800-48A3-AC2A-D01F189A82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7EFC-CF39-4B90-92F2-9F7E344133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AF52-F94B-481D-B578-72D5F6128A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D2DB-472A-4A56-A815-E72EB483D5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A37F-A56D-4040-8467-52A1EBBE23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5712-5684-45F1-BFA5-AC44CD5CD8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6D5E-9FB9-47DA-8442-AABC0F18C0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8C70-0C54-428B-9FA7-D83BDC8E40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EE3A-D4CC-4E53-B11C-224588DF2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7258-4842-49C3-9EFF-3FA18DC7D2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B5ED-1FF9-4684-B34B-DD0D06A386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B6E3-84C4-4FED-A2A7-C66AA6F939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2EAB-9D86-455A-8EE8-B9125AA392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ECBE-F598-45C1-8143-B8150568CF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AC5E-995A-4CAC-B56E-C8A6211D55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012B-C3E9-4535-A9A1-FF7E584186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2526-A509-41BB-BED6-515E0E357B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F61C-DA6F-4C2B-A1BD-4697D64ED8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D195-676E-423E-A866-C3D38988E2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B8BE-7D4E-4D8B-8EC6-1D04148886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D0FC-2A2B-4AB3-9CF3-9457057BEA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3809880" y="3138480"/>
            <a:ext cx="15242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2" descr=""/>
          <p:cNvPicPr/>
          <p:nvPr/>
        </p:nvPicPr>
        <p:blipFill>
          <a:blip r:embed="rId1"/>
          <a:stretch/>
        </p:blipFill>
        <p:spPr>
          <a:xfrm>
            <a:off x="447840" y="2062080"/>
            <a:ext cx="8248320" cy="2733840"/>
          </a:xfrm>
          <a:prstGeom prst="rect">
            <a:avLst/>
          </a:prstGeom>
          <a:ln w="0">
            <a:noFill/>
          </a:ln>
        </p:spPr>
      </p:pic>
      <p:sp>
        <p:nvSpPr>
          <p:cNvPr id="1055" name="矩形 2"/>
          <p:cNvSpPr/>
          <p:nvPr/>
        </p:nvSpPr>
        <p:spPr>
          <a:xfrm>
            <a:off x="7643880" y="207180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3"/>
          <p:cNvSpPr/>
          <p:nvPr/>
        </p:nvSpPr>
        <p:spPr>
          <a:xfrm>
            <a:off x="7572240" y="3643200"/>
            <a:ext cx="10004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4"/>
          <p:cNvSpPr/>
          <p:nvPr/>
        </p:nvSpPr>
        <p:spPr>
          <a:xfrm>
            <a:off x="571680" y="4143240"/>
            <a:ext cx="8571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428760" y="928800"/>
            <a:ext cx="832464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3628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2" descr=""/>
          <p:cNvPicPr/>
          <p:nvPr/>
        </p:nvPicPr>
        <p:blipFill>
          <a:blip r:embed="rId1"/>
          <a:stretch/>
        </p:blipFill>
        <p:spPr>
          <a:xfrm>
            <a:off x="428760" y="809640"/>
            <a:ext cx="8362800" cy="604836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1000080" y="8571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1000080" y="185724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4"/>
          <p:cNvSpPr/>
          <p:nvPr/>
        </p:nvSpPr>
        <p:spPr>
          <a:xfrm>
            <a:off x="928800" y="24289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5"/>
          <p:cNvSpPr/>
          <p:nvPr/>
        </p:nvSpPr>
        <p:spPr>
          <a:xfrm>
            <a:off x="928800" y="29289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6"/>
          <p:cNvSpPr/>
          <p:nvPr/>
        </p:nvSpPr>
        <p:spPr>
          <a:xfrm>
            <a:off x="928800" y="38577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7"/>
          <p:cNvSpPr/>
          <p:nvPr/>
        </p:nvSpPr>
        <p:spPr>
          <a:xfrm>
            <a:off x="1000080" y="44290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8"/>
          <p:cNvSpPr/>
          <p:nvPr/>
        </p:nvSpPr>
        <p:spPr>
          <a:xfrm>
            <a:off x="1000080" y="50007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9"/>
          <p:cNvSpPr/>
          <p:nvPr/>
        </p:nvSpPr>
        <p:spPr>
          <a:xfrm>
            <a:off x="928800" y="54291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10"/>
          <p:cNvSpPr/>
          <p:nvPr/>
        </p:nvSpPr>
        <p:spPr>
          <a:xfrm>
            <a:off x="928800" y="592920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11"/>
          <p:cNvSpPr/>
          <p:nvPr/>
        </p:nvSpPr>
        <p:spPr>
          <a:xfrm>
            <a:off x="928800" y="64436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2" descr=""/>
          <p:cNvPicPr/>
          <p:nvPr/>
        </p:nvPicPr>
        <p:blipFill>
          <a:blip r:embed="rId1"/>
          <a:stretch/>
        </p:blipFill>
        <p:spPr>
          <a:xfrm>
            <a:off x="414360" y="1119240"/>
            <a:ext cx="8315280" cy="4619520"/>
          </a:xfrm>
          <a:prstGeom prst="rect">
            <a:avLst/>
          </a:prstGeom>
          <a:ln w="0">
            <a:noFill/>
          </a:ln>
        </p:spPr>
      </p:pic>
      <p:sp>
        <p:nvSpPr>
          <p:cNvPr id="1037" name="矩形 2"/>
          <p:cNvSpPr/>
          <p:nvPr/>
        </p:nvSpPr>
        <p:spPr>
          <a:xfrm>
            <a:off x="2857680" y="32511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3"/>
          <p:cNvSpPr/>
          <p:nvPr/>
        </p:nvSpPr>
        <p:spPr>
          <a:xfrm>
            <a:off x="7858080" y="37861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2" descr=""/>
          <p:cNvPicPr/>
          <p:nvPr/>
        </p:nvPicPr>
        <p:blipFill>
          <a:blip r:embed="rId1"/>
          <a:stretch/>
        </p:blipFill>
        <p:spPr>
          <a:xfrm>
            <a:off x="428760" y="1914480"/>
            <a:ext cx="8286480" cy="3029040"/>
          </a:xfrm>
          <a:prstGeom prst="rect">
            <a:avLst/>
          </a:prstGeom>
          <a:ln w="0">
            <a:noFill/>
          </a:ln>
        </p:spPr>
      </p:pic>
      <p:sp>
        <p:nvSpPr>
          <p:cNvPr id="1040" name="矩形 2"/>
          <p:cNvSpPr/>
          <p:nvPr/>
        </p:nvSpPr>
        <p:spPr>
          <a:xfrm>
            <a:off x="2071800" y="235728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3"/>
          <p:cNvSpPr/>
          <p:nvPr/>
        </p:nvSpPr>
        <p:spPr>
          <a:xfrm>
            <a:off x="1857240" y="29289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4"/>
          <p:cNvSpPr/>
          <p:nvPr/>
        </p:nvSpPr>
        <p:spPr>
          <a:xfrm>
            <a:off x="3286080" y="44290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2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80578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2" descr=""/>
          <p:cNvPicPr/>
          <p:nvPr/>
        </p:nvPicPr>
        <p:blipFill>
          <a:blip r:embed="rId1"/>
          <a:stretch/>
        </p:blipFill>
        <p:spPr>
          <a:xfrm>
            <a:off x="423720" y="800280"/>
            <a:ext cx="8296560" cy="5257800"/>
          </a:xfrm>
          <a:prstGeom prst="rect">
            <a:avLst/>
          </a:prstGeom>
          <a:ln w="0">
            <a:noFill/>
          </a:ln>
        </p:spPr>
      </p:pic>
      <p:sp>
        <p:nvSpPr>
          <p:cNvPr id="1045" name="矩形 2"/>
          <p:cNvSpPr/>
          <p:nvPr/>
        </p:nvSpPr>
        <p:spPr>
          <a:xfrm>
            <a:off x="1714680" y="457200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3"/>
          <p:cNvSpPr/>
          <p:nvPr/>
        </p:nvSpPr>
        <p:spPr>
          <a:xfrm>
            <a:off x="4286160" y="5572080"/>
            <a:ext cx="14288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2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296200" cy="5610240"/>
          </a:xfrm>
          <a:prstGeom prst="rect">
            <a:avLst/>
          </a:prstGeom>
          <a:ln w="0">
            <a:noFill/>
          </a:ln>
        </p:spPr>
      </p:pic>
      <p:sp>
        <p:nvSpPr>
          <p:cNvPr id="1048" name="矩形 2"/>
          <p:cNvSpPr/>
          <p:nvPr/>
        </p:nvSpPr>
        <p:spPr>
          <a:xfrm>
            <a:off x="3286080" y="785880"/>
            <a:ext cx="1500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3"/>
          <p:cNvSpPr/>
          <p:nvPr/>
        </p:nvSpPr>
        <p:spPr>
          <a:xfrm>
            <a:off x="5715000" y="128592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4"/>
          <p:cNvSpPr/>
          <p:nvPr/>
        </p:nvSpPr>
        <p:spPr>
          <a:xfrm>
            <a:off x="6929280" y="1857240"/>
            <a:ext cx="15004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5"/>
          <p:cNvSpPr/>
          <p:nvPr/>
        </p:nvSpPr>
        <p:spPr>
          <a:xfrm>
            <a:off x="4214880" y="2857680"/>
            <a:ext cx="1571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6"/>
          <p:cNvSpPr/>
          <p:nvPr/>
        </p:nvSpPr>
        <p:spPr>
          <a:xfrm>
            <a:off x="4857840" y="3357720"/>
            <a:ext cx="21430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7"/>
          <p:cNvSpPr/>
          <p:nvPr/>
        </p:nvSpPr>
        <p:spPr>
          <a:xfrm>
            <a:off x="6286680" y="492912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6:2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